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21F-F45D-46D3-9F52-A405BF9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355-8DB2-42C6-AE83-EA7FEBD2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02C-01E1-4B0E-896F-30D6B200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B4D-E7AE-4D88-BC5A-CC3E3911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825-F0DC-4706-BB61-9EA34382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9DE-C751-4D10-AEB3-42459B1E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FAA-E6EF-47B5-BB86-F363D352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E98-C771-4E40-9303-E1588CC4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775-0310-4F39-99B1-217C3CAF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FEA-99FD-4BB6-BE97-6DA1243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B5B-19C1-486A-9AE6-E5CA6B8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676-25AD-4C44-9D33-2398A70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9E3-3E07-4828-8A29-EF1AD33E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ff"/>
                </a:solidFill>
                <a:latin typeface="Magneto"/>
              </a:rPr>
              <a:t>How Hard Does Speed Work?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Do boys or girls run faster and or harder in spri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I think boys will run faster and harder than girls on average, just to get it over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Results (Down Back Dow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Jordan- 16 sec. 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leb- 16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dy- 15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llin- 14 sec./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meron- 17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Andi- 14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helsey- 16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Destiny- 17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Haylie- 18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Brityn- 18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Results (Suici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Jordan- 25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leb- 25 sec./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dy- 26 sec./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llin- 24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meron- 26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Andi- 23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helsey- 26 sec./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Destiny- 27 sec./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Haylie- 28 sec./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Brityn- 31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agneto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My hypothesis was right. The boys did, on average, run faster. However, the fastest was a girl, A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agneto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Sprinting (Running)." 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Wikipedia.org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. Web. 15 Dec. 2010. &lt;http://en.wikipedia.org/wiki/Sprint_(running)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"How to Improve Your Sprinting Technique." 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Sport Fitness Advisor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. Web. 13 Jan. 2011. &lt;http://www.sport-fitness-advisor.com/sprintingtechnique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"Sprinting." 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Redirect to Index page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. N.p., n.d. Web. 26 Jan. 2011. &lt;http://www.brianmac.co.uk/sprints/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I would like to thank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ameron Fair, Cody Salazar, Caleb Hendricks, Brian Walker, Collin Anderson, Andi Dowell, Destiny Nickerson, Chelsey Riffel, Henry Weiner, Kasady Smith, Mrs.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34:37Z</dcterms:created>
  <dc:creator>USD376</dc:creator>
  <dc:description/>
  <dc:language>en-US</dc:language>
  <cp:lastModifiedBy>USD376</cp:lastModifiedBy>
  <dcterms:modified xsi:type="dcterms:W3CDTF">2011-02-16T15:09:59Z</dcterms:modified>
  <cp:revision>5</cp:revision>
  <dc:subject/>
  <dc:title>Slide 1</dc:title>
</cp:coreProperties>
</file>